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9A0-8BD2-41F1-94D2-C0D3C3FA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781-4D11-4170-810D-B19ADA82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6D8-E5F4-4D3B-BEAE-536C7E13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488-A741-47C4-93B4-99DE8361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CB3-F3AC-4973-BAB3-45FB23A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C37-EDFB-4154-9D7B-2675872B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57C-C840-4B22-9B48-C6B9F3C0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AE3-BADB-4FA6-B0E8-E05F05F6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96C-A01D-4BF6-B52C-4F20430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D64-3AB5-47D1-BF71-16F4F9E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ACE-5C37-4020-9BB6-3EAD1C6C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A1B-0C0F-4715-B2B7-5BB13AF1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D3C-F499-49D5-9536-DE41DC0BD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CAMERE EMILIA-ROMAGNA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ragionerie – gruppo di lavoro “nuovo regolam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P.R. 254/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rifles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ta di WORK FLOW di program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RAMMA PLURIENN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art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iettivi di priorità strategica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luriennali di mand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ultati da conseguire nell’arco del mandato (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esponsabilità poli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disponibili nei 5 an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GGIORNAMENTO ANNUALE (art.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disposizione Relazione Previsionale Program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zione degli obiettivi strategici annuali, coerenti con il programma pluriennale e con le priorità in esso conte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dazione dei programmi annuali di intervento di specificazione delle finalità che si intendono perseguire nell’an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cazione dei risultati da conseguire nell’anno(STEP DEL PLURIENN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orse annuali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NTIVO ECONOMICO (artt. 6 e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lassificazione per funzione istitu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zione al preventivo (art.7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proventi, oneri e pia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 informazione sui criteri di ripartizione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unzione istituz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determinazione delle risorse economic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stinate ai programmi annuali (da R.P.P.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UDGET DIREZIONALE (artt. 8 – 9 e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 Attribuzione risorse e programmi alla dirig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6200000">
            <a:off x="4210560" y="2708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108240"/>
            <a:ext cx="52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zione del piano di 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4175640" y="3824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1474920" y="4075560"/>
            <a:ext cx="6989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so com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Indicazione alla dirigenza dei risultati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guire   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abilità gestion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rot="16200000">
            <a:off x="4248000" y="533700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77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attività e risultato sull’andamento dei program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 di efficienza, efficacia, economi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00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GLIO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 4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tesura del programma plurien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obiettivi di priorità strategica ed i 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sponsabile della scelta annuale degli obiettivi prior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dividua le linee guida per la definizione dei 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00720" y="1341000"/>
            <a:ext cx="4643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EGIO REVISO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artt.29-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ponsabile del controllo amministrativo-contabile-fi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280" y="3716280"/>
            <a:ext cx="39560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UN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sponsabile della valutazione strategica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dispone il preventivo economico (art. 6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segna alla dirigenza (art.8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grammi di interv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ultati da consegu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56000" y="3500280"/>
            <a:ext cx="47880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O DI VALUTAZIONE STRATEGIC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t. 3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o tecnico di supporto alla Giu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 gli indicatori di attività e risultato sui program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ferisce periodicamente alla Giunta con relazioni periodiche, annuali (anche a Presidente e Collegio reviso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 la qualità dei servizi erogati ed il grado di soddisfazione dell’u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nisce alla Giunta elementi di giudizio per la valutazione della diri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4149720"/>
            <a:ext cx="718920" cy="358920"/>
          </a:xfrm>
          <a:prstGeom prst="leftRightArrow">
            <a:avLst>
              <a:gd name="adj1" fmla="val 50000"/>
              <a:gd name="adj2" fmla="val 39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TARIO GENERALE E DIR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 della gestione e del realizzo dei programmi assegnati dalla Giu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valutati dalla Giunta per il tramite di indicazioni fornite dal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no il “Piano d’azione” per la realizzazione dei 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OLLO DI GEST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rt.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ifica e monitora il piano d’azione dei dirigenti inteso 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rogetti/attività/iniziative/contrib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itora gli indicatori di efficienza, efficacia, economicità dell’azione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rta l’organo di valutazione strate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0:08:55Z</dcterms:created>
  <dc:creator> </dc:creator>
  <dc:description/>
  <dc:language>en-US</dc:language>
  <cp:lastModifiedBy>pinid</cp:lastModifiedBy>
  <cp:lastPrinted>2006-06-23T08:50:46Z</cp:lastPrinted>
  <dcterms:modified xsi:type="dcterms:W3CDTF">2006-06-23T08:51:14Z</dcterms:modified>
  <cp:revision>4</cp:revision>
  <dc:subject/>
  <dc:title>UNIONCAMERE EMILIA-ROMAGNA Network ragionerie – gruppo di lavoro “nuovo regolamento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1560829</vt:r8>
  </property>
  <property fmtid="{D5CDD505-2E9C-101B-9397-08002B2CF9AE}" pid="3" name="_AuthorEmail">
    <vt:lpwstr>cristina.sandri@fe.camcom.it</vt:lpwstr>
  </property>
  <property fmtid="{D5CDD505-2E9C-101B-9397-08002B2CF9AE}" pid="4" name="_AuthorEmailDisplayName">
    <vt:lpwstr>Cristina Sandri</vt:lpwstr>
  </property>
  <property fmtid="{D5CDD505-2E9C-101B-9397-08002B2CF9AE}" pid="5" name="_EmailSubject">
    <vt:lpwstr/>
  </property>
</Properties>
</file>